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BF8-2A51-481A-8508-7ADBD00A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31A-E5DE-4814-86AF-8303C2E4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B9CF5-8B5C-46A1-A8D8-662D6CEE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4C32D-C8CD-4A26-A18A-88E30D51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D411C-05C5-4B86-865B-99DD4AD1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1FD9E-C6AC-41CF-8A31-D83A8C2C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970B9-AC48-41FE-A8F5-BFFF846C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D23B9-C85F-4B40-A73D-4B2B80CE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A58EF-BBA9-4DC0-8481-BE8726EE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E976C-2085-42A4-833D-A9984C64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258B3-DEEB-40E7-A723-7BDDF7CD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88ABC-DBB5-4AC9-AB99-A3BA1391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E58-C01A-49F1-9A51-FDB3DDE0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08FF3-BCFD-4C87-97A8-6FDAA0C3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C3BC1-7AF1-479D-A837-0209F567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8EF10-7F5A-4C85-BC6F-C97DF629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6C5E8-216B-4D1B-908E-108C93E6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774A1-C4D7-44B0-A790-BEA59330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1D0A5-8618-4EAE-8E51-8BD4F95D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21FDA-4389-4E33-84FE-B3E8AC55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FCC1A-A37F-4071-929C-B2AD9F4F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6F87A-5CC2-4702-A429-3688EBFB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BF9CF-0F58-4B39-BA7E-4245B399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3580-8159-4F3E-BE86-0D33597F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7B7D8-F4C0-4109-B96A-D8D98C96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D8C78-E845-453D-BC11-65EB446C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96960-90B9-4937-8E22-BDD58DD2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8D932-8C7E-425F-96CA-19AB43B6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5EF60-E13B-4E92-818A-09D38C8E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26467-44EE-4C02-8943-C80AEDD6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1CBAF-74E8-4A85-9BF8-2287FB1C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9D89D-ADE8-4AFA-9606-B14AE489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9B32B-DC5D-4E32-BC0E-A1F7457B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BD6FB-FC63-4526-8956-864DF8B1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4DB1-5C7E-437E-9EC1-04DE334D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4AAF2-0853-4C8F-BD62-2F5440B9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3311F-1486-46A2-B9ED-13921B38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83DE0-DC2E-465C-A1CC-CC7F9F44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BC435-EE09-43F9-9B82-A7D62794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8F213-7B49-4D3F-8854-E2D96BBC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BACDE-FCE5-4D54-B11B-EAD2839E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2AFE2-6776-404C-93EA-73CA0720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FA868-E951-45BE-BD78-3C7EAB0B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16D93-E2F3-44C3-A87D-16A28D2E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8BF3C-7447-48C2-AB21-8040F998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47E6-F7D1-47DC-8B29-AB5C183A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F4015-0171-4886-B346-A297E9F5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F44F3-05F0-47FE-BC3D-7CC268BC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BF1C5-54D0-41F6-B385-7D604C6F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8D77E-ECA8-4A69-8700-9FF8EA79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452F3-8BA0-404D-95AF-0C4ADBAD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ECA1C-1101-4BC0-90D9-81E17800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0CB3E-8C9B-49A5-9226-2B830FA4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F68668-6D3C-402B-8AC6-62543377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4FB60-D9F3-4D0B-9750-F3D42464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4FD328-F984-4B7A-BBA4-47E4746D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ED10-9865-45CC-B43B-33F4DB7B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4DB0C-92B5-481C-8E9F-B132ACDD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2A84D7-0861-4BBD-9352-240F6A10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DF505-E5D7-4192-8D1D-91E1AB43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1F66BF-E212-4138-97E5-1DE02C91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95430-89B2-400F-80CA-BD5557B6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56A42E-371E-4E27-8D12-BA845F1B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63966-4B44-41F3-A2D9-F90F726E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0D346C-92D1-4316-B51A-BCCEAA4B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EF444F-B082-4163-BE40-2078484C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B6A4B-EED7-47C4-AF9A-30348EF9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2B5C-BDB6-4466-AA1B-A5014203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C163C0-3DDB-4C6B-8001-97E4B8D4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55804-6F62-42E3-BEC5-5F724577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11B1E2-3EE2-4FE4-9C86-6D422D48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3D667-24C6-4964-B106-8D43E1C1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FD8A5-3403-44D3-9196-0A99FC67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80B9A-1EC2-4BE1-ADA8-D0CE2E2A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4EBAB-4E0E-43E9-90BF-11E011F3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95F6D8-14BE-4645-8F94-95C5B04E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685FA-6293-4F58-BAC0-8D9DCF56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B4E034-D81A-4CBD-B507-B7A24C09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698D-E0C2-4BDB-9B43-8C693885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40C849-6812-4CCB-81E7-522E392C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F44837-8307-4EB6-BBDC-D3AE94BD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2B5490-40E6-46A8-9523-07CDBFAD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91DF3E-BFE0-467A-8807-C0316867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F329A0-4F2F-45BD-B216-EFF34E6B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35B16E-034E-493D-9CE3-289A0621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917D68-588B-4CD9-95DF-55C592A7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5D5920-15F5-4FFB-9B1F-479668D3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379ADC-8F7E-4C22-AD7C-5D78185F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E49576-5C8A-4791-A0E9-CCDD048F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5B7C-7D46-4E0B-89CB-A0DFA233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3DA6CE-1BAD-40C7-82BE-EBD77A01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51D146-52F8-40AF-A8A8-3ED60BA6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02E631-6088-4913-B067-D9A0FC43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E93658-38CE-4C78-956E-509BF923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C655EE-161F-482A-9990-62EDF1CB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13102E-091E-49E4-9C0D-A5F3246B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A42E97-595F-404F-96A6-7C23C88C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6C01A6-3447-4CCB-9615-A19B1789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EA5A28-4DB5-485E-ACF4-A5CD88D2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3FB9FD-62AA-470C-98EC-77A354B4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8840-C21E-4794-9099-AA674F65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917C5F-A5B8-4416-88D2-15E19F98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6C9FFC-E16E-4DDE-9EB0-44621B7D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DBA29B-0E36-4EA2-A168-AD62A167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0DBE1-8F34-4E4D-AF79-07EB4FCD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80986E-AB1B-4029-859B-F269B5B9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E49C57-D366-46CB-B507-3929F94D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1B7D45-FA58-4AEF-801D-1A70A617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7DB5A6-559F-471B-BC1A-5D1BF26E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143032-8D9D-4670-8BE0-6C334CDC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62DE00-CD25-4AD6-A1CA-E5FAB31C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E501-3CF8-4BF5-A54E-D1461A9B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403F-2AB0-46D7-AD67-5F1A4C0D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C84441-87DA-40FC-9358-09FED915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899604-45C4-477F-ADAB-5F83BB2C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F34DF1-8088-4021-8679-3CCDBBA9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2997D3-59FD-4F70-8B4C-D8BA5B51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CC2062-CA86-479A-B63C-08D9EB5C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BBBB4F-1E2C-4F92-B1BC-C582B32B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DDC387-5219-43E3-939B-FAE47B30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CF5952-E5F1-4743-880A-769A684F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33597F-632D-481C-A94D-46042D54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FE6607-C8B4-4A74-A83E-16B92DDE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4D10-3061-4E8D-BB9F-C8942372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3B4F40-0E97-43ED-807E-07850F5B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A84AB6-0AF7-4BB7-B680-3F068320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B3C806-00CF-4D1D-947A-231CF198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0EB344-D5C8-4073-87C3-E3EE998A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E63E70-271E-4033-92C9-5C16BF4B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753EF7-D4B2-4D2A-9DC1-EFF8EA0C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76D9B6-56E8-489C-B669-8F7E9F99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A88105-6CEB-45F3-99E5-1B54D528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12C8A3-C024-4ABD-815C-C5ECEFC7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FD8556-0FEF-4652-A90C-680CC92F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0064-9607-4AB7-80BC-62C82F39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1894B1-6C5A-4E3B-BD07-8415427C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BFB303-6AD6-43F7-A674-2F52B85C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10E13A-8EF3-4818-8200-93031173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01E7A6-3D10-4989-A086-BF7D2A4B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9DD699-D85C-4A80-9393-304D7862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68CB3A-5C51-4711-8A3B-D374BCF4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F7DAA6-43A0-4D37-91F0-4D68FF17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4CD2CF-4F77-48CF-B088-19B857C8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A1D912-7923-45EC-9CCC-D61BB0F7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D23923-76B1-4D20-BB5C-10D46361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45CF-A817-448A-B522-B8D09E01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0DE473-12DF-4FD3-88F6-D36D4253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F1A48B-709C-45D7-ABB6-4ACBAC4A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DB5E5F-9DDF-4165-B8F5-62FBC0F4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7A767F-F37C-4EBB-A3C1-536D2D68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006468-47B8-46CE-806F-E90D22B8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5BAAF4-C6C5-4D03-91C8-75C38FA0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E77BF3-EB99-4D1F-B767-236862A6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CA7776-35BB-47D7-B706-E1AF6058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712C4D-C4D0-4955-AD2D-44A70562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BE2FCD-1866-41C8-B1DC-23175BE4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2CC5-6270-43A0-94D8-737FD9C9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4DE988-707F-461B-BA78-7B2BFEA7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2FFE4D-1E93-4192-A399-9CB7A794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8318D9-888A-4A09-9351-50BD19D7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785023-7EF5-4945-A07D-9791E85E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8F0CDB-6CCF-4A13-94E1-9FF3784D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B4B30D-6F5F-4A58-BAC7-813CBC47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D56C29-8A0B-4626-AC06-D55A3356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761796-B1C3-41E2-AADA-2501EB42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E55B0C-FAAD-4345-BB89-FF941ACB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43476A-A090-406D-87C6-0FD12DB3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E7E41-8F63-4A32-9818-602733B2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90D50F-6C4F-4A4B-84AE-A529E4C0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7B3B51-CF2B-4943-BA31-02E8183D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9C31B7-694A-4EE0-AF66-9E0F7636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203FBF-3E02-4399-828A-9103D9D5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30B549-820F-43DE-A891-A6309068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E2DF5D-838B-497D-8275-8923057B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4E6FB8-9D63-421B-BC81-F71D1550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1276C0-3C51-4EA9-9FF5-01359C3A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B3B63C-387F-44AF-8AF0-6E9CF586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806EDA-98E2-4F07-9248-647904A6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DA6F8-0B6A-4560-8A9B-7E8F35B3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2E5904-EC18-403A-8885-B53078B8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0AD666-92B8-4CCF-A20C-E235F865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D7580C-77DA-4A5A-933B-BC2FBA10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65C338-5720-4777-A122-E0277E78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6477FD-8B67-42EC-B763-6F652E43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52462-29F0-40DF-B7EF-EF060E28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370CC-8685-402D-BF1A-904C2E75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48799-BD55-47FB-B1FF-69CA5789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70D9-4759-4D84-8098-8B2A4689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5A7D3-A23C-4F74-897C-E74EC3BC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AD05C-05BF-4746-B0C1-E59934DF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5D16B-510B-4792-88BD-473E9D54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C2F06-8C2D-44CC-8AF9-4CB4FF45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A15D8-AC07-440B-ABF9-3A589391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4916C-52A5-4A43-82CD-24224A1E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C244E-C9BB-4C5E-A57A-96AF5AB9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31473-678F-47AC-8D2C-8AB17754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FB3B6-B5C8-42EA-941D-84086D2C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FCF47-73CE-4011-AB8B-5CABD8C7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3CA-ECF1-4363-9719-867902D0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228D7-0CD0-49D8-BFEE-30F389D9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6FB1D-627A-478B-BA41-722662AF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B379C-6AAE-4343-985A-2DC10C47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23584-22FB-4D63-B279-91EDA05C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167C1-2AF8-4A8F-AB2A-208CFFE1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B00A6-54A8-46F0-B986-FB78D2ED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0605F-B0CA-492F-92BD-EE3AC0BE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6A8AE-5008-474F-A300-91D0C5BF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DD0DB-D91B-4D7C-ADD6-521A3C3C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DCC7F-04F0-474D-8C9E-ED8336A8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35D-03B2-471A-AA2B-14C79F84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DE64E-5185-4C29-9B15-86E8AD64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87FAF-A053-492A-9F4E-95D0CE88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186A2-FC93-4D9E-B66D-076E6BDB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DC6E5-0D05-4264-B3B2-661CD562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1E1C8-3B66-48F5-BA12-57171A60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70F0E-DA98-4868-8D41-F6A1119B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E1855-BE72-4C9C-9640-5CEAA8F8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C6A3D-66F2-4F8B-8A9F-B2B7F60B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E6915-7C81-49B3-ADFD-A8975F00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10392-6583-41CA-9110-F5916117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6107-0BA3-4168-BC6A-0938AB26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EA714-A7F8-4B56-93A7-F2FAD0EC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EA4A7-E7B1-49DF-A0B1-B6771785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047D8-CEE0-4FA6-934D-E623AD78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B3621-8904-4A0A-ACB7-E8F05DB0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8D6EA-FF1A-4D2D-970B-1A89E375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00839-99FA-4782-9D99-2F61042F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03DF6-C9C6-44B1-AB29-FC733DA3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FAFCC-0542-4038-A30D-A106B376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61B32-EE2E-4FC2-AC7D-54562C0D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D2F01-0A42-45B4-91F6-B1291FE1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5B9-5EFE-4E65-B85F-812B1629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11A3D-BE35-460B-9CC0-7AA7DAFD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80BBA-F07D-47E4-AB29-1303513F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4969E-7B3F-422A-B7FA-74AC5E6E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84054-4521-4457-B5B5-28D83145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5B7E7-1747-4375-9977-F8B93976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C33EB-CCA9-4CA9-BCD6-138ACA6B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A1DAF-B656-4926-B340-1897D2BE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2C654-D323-4517-95B7-2CBE52B4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00AC3-C355-46F4-8FB1-D1AC513D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5450F-75D7-4AF4-8BDA-E1AC599F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073-A0BE-4DCC-9EA1-66CC1D66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81F22-B59F-4624-841E-8DCF8687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7C6D6-DF60-4E2D-8AF5-A8B73D77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FD6B9-CC3A-4CAD-9102-E8EA3E4E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5E4E5-4935-4108-B229-B947030C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8E9E1-9B19-4F69-BA90-476B8893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C6697-C41B-4494-B3DF-A8116A55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69642-F95D-4D9D-A144-0A2D8102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F81D6-7DB4-41C5-BCFF-6C3A6BD5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A6D33-FFE8-4590-B1D5-41B56164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413F4-818E-4834-BACA-B240682E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2B3-070D-4957-A754-88A32774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8B2B2-10BE-423E-8E93-143D6ABA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9B3F5-37B3-495E-807A-5C0AA192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63835-8D25-4399-823B-5A2F001A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AF517-100E-4F47-AB30-39EAA9EC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CE664-D280-4D27-B758-1E534E14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37EBB-E166-45C8-8251-03C0D42B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71B36-A3EE-4E3F-B207-57E7BF88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9F79D-2C47-4609-9509-7764D1ED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88691-DF91-4C05-8DEC-F9DDE2B6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5902E-E19D-4B28-8896-EF73B027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DD35-E6A5-4F76-946D-9FBD15DB8E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A320-EBE4-4264-A4BA-ED6AE51AD5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A6B2-2E74-48A7-AD1A-5756F9417D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5F48-B676-4149-A3F1-60054D357A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9F2C-DE4F-4B4A-B99A-223D885B80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8D10-C082-4EEC-BC23-8A61B9018F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68F7-E8A2-4E29-A375-5581DED4A3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4DEF-8BE1-4D06-9D35-940C173ECC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C4C2-A1DE-4F4B-941F-DCC1A672EE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BC50-A7C0-481D-BD9B-AB44E305CA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B875-413C-4B5D-81F1-AABF0628D1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E892-3E2F-4C15-8B5E-06A74C886E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8766-650D-47B4-964B-4ADA8AE1D4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CD75-A82B-4ED6-83C9-E5E23901FD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7EDC-3696-485E-8D42-6A22A747F8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2A62-E277-4368-81BB-10F3DFE3AB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A424-78C9-4EFB-8781-C2C0276F79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BDF6-F731-4441-9FD9-C54C3AE09C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41FC-30DF-473D-A861-A06601FFE5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2D3D-169A-40C3-8070-F22F03E99A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5505-8819-4192-9BA8-3F397315D6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8865-8932-4D96-BF81-06F0D73BED5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63C0-311D-4FE9-9A69-974AA07671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AA4F-69EE-4D24-BB67-C5C6390AA7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4D43-CEA2-4A4F-8A72-EE42E2E128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DDD1-A7F3-4011-ADA7-9B9121BD18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59C7-EAE0-4869-A731-7FE7274C46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856D-03C2-4A4B-9F93-81E66DA9E2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2C70-42EC-48EC-90DE-40E03FA816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3779-C5B9-49FF-A82D-F612212932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404F-1E4B-4B51-B270-638082A460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B8B0-6694-47AD-8D9D-DCC813D14C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0246-82C1-4134-AA3B-856EA1D882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2825-9820-4BD6-ADDF-4659DC4ACC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F018-B03A-44ED-A9C7-28FF0BDDC0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C3A7-6D6A-4207-B5AF-6244768991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502F-5345-47A7-ABDC-CB03AF2F9A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51BA-3234-4C70-B709-6C417553D2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E624-8C8F-4CC8-8FB9-7C92AF52A1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0359-4179-4F78-97D9-8EEB6F1BDA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E0E4-2043-4DB3-9442-82DA91FC4C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1195560" y="2719440"/>
            <a:ext cx="67528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6" descr=""/>
          <p:cNvPicPr/>
          <p:nvPr/>
        </p:nvPicPr>
        <p:blipFill>
          <a:blip r:embed="rId1"/>
          <a:stretch/>
        </p:blipFill>
        <p:spPr>
          <a:xfrm>
            <a:off x="557280" y="1990800"/>
            <a:ext cx="8029440" cy="2876400"/>
          </a:xfrm>
          <a:prstGeom prst="rect">
            <a:avLst/>
          </a:prstGeom>
          <a:ln w="0">
            <a:noFill/>
          </a:ln>
        </p:spPr>
      </p:pic>
      <p:sp>
        <p:nvSpPr>
          <p:cNvPr id="964" name="直接连接符 6147"/>
          <p:cNvSpPr/>
          <p:nvPr/>
        </p:nvSpPr>
        <p:spPr>
          <a:xfrm>
            <a:off x="2627280" y="3860640"/>
            <a:ext cx="2305080" cy="648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直接连接符 6148"/>
          <p:cNvSpPr/>
          <p:nvPr/>
        </p:nvSpPr>
        <p:spPr>
          <a:xfrm flipH="1">
            <a:off x="3634920" y="3976560"/>
            <a:ext cx="505080" cy="576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直接连接符 6149"/>
          <p:cNvSpPr/>
          <p:nvPr/>
        </p:nvSpPr>
        <p:spPr>
          <a:xfrm>
            <a:off x="6229440" y="3803760"/>
            <a:ext cx="1006560" cy="7189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直接连接符 6150"/>
          <p:cNvSpPr/>
          <p:nvPr/>
        </p:nvSpPr>
        <p:spPr>
          <a:xfrm flipH="1">
            <a:off x="6012000" y="3976560"/>
            <a:ext cx="2125440" cy="5461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7169" descr=""/>
          <p:cNvPicPr/>
          <p:nvPr/>
        </p:nvPicPr>
        <p:blipFill>
          <a:blip r:embed="rId1"/>
          <a:stretch/>
        </p:blipFill>
        <p:spPr>
          <a:xfrm>
            <a:off x="228600" y="826920"/>
            <a:ext cx="8686800" cy="59151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2"/>
          <a:stretch/>
        </p:blipFill>
        <p:spPr>
          <a:xfrm>
            <a:off x="1619280" y="4984920"/>
            <a:ext cx="936720" cy="3189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3"/>
          <a:stretch/>
        </p:blipFill>
        <p:spPr>
          <a:xfrm>
            <a:off x="3549600" y="4984920"/>
            <a:ext cx="936720" cy="3189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4"/>
          <a:stretch/>
        </p:blipFill>
        <p:spPr>
          <a:xfrm>
            <a:off x="5435640" y="4984920"/>
            <a:ext cx="936720" cy="3189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5"/>
          <a:stretch/>
        </p:blipFill>
        <p:spPr>
          <a:xfrm>
            <a:off x="7351560" y="4998960"/>
            <a:ext cx="1108080" cy="3193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6"/>
          <a:stretch/>
        </p:blipFill>
        <p:spPr>
          <a:xfrm>
            <a:off x="2700360" y="57340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7"/>
          <a:stretch/>
        </p:blipFill>
        <p:spPr>
          <a:xfrm>
            <a:off x="3146400" y="629460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8193" descr=""/>
          <p:cNvPicPr/>
          <p:nvPr/>
        </p:nvPicPr>
        <p:blipFill>
          <a:blip r:embed="rId1"/>
          <a:stretch/>
        </p:blipFill>
        <p:spPr>
          <a:xfrm>
            <a:off x="119160" y="2038320"/>
            <a:ext cx="8905680" cy="27813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2"/>
          <a:stretch/>
        </p:blipFill>
        <p:spPr>
          <a:xfrm>
            <a:off x="4284720" y="42354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3"/>
          <a:stretch/>
        </p:blipFill>
        <p:spPr>
          <a:xfrm>
            <a:off x="5508720" y="42354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4"/>
          <a:stretch/>
        </p:blipFill>
        <p:spPr>
          <a:xfrm>
            <a:off x="6732720" y="42354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5"/>
          <a:stretch/>
        </p:blipFill>
        <p:spPr>
          <a:xfrm>
            <a:off x="7985160" y="426420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04:1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